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CBBB-93E0-4909-90D7-2FD6BC29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CD3B-A49F-4F52-BFE5-A18F8ABE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BEFBDE-CE8C-475D-B891-5E3D9030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5B00B8-9BA9-486D-B349-33CEF71A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B45199-06A1-4510-B192-408146F1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45B2E4-9053-443A-8D35-26C1425B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0F0029-89E8-4868-B0EB-8C06861B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56F52E-0D27-4BD1-B50F-9FC78871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68A445-2944-4DD7-ABEF-3531D449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C68B69-DED5-4493-ADB2-521AE7B1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EEBF57-6226-46A8-96E4-E9C8CA95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F4B474-4906-4052-A2BC-E556FA56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A64B-E219-4293-9A92-56DE9698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C231EE-F6BF-4D11-B6DD-F21E2B2B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2224DF-800C-41AE-BDC4-5EA1D8F3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C6157F-C82A-4C76-82C7-D4F2E723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B1CDE-D621-42D8-9274-E6FFE114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4E62BC-BB7C-4ED6-8D98-02D77D8A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CEEF4C-A724-4472-A1EB-7DBFDBAB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98FB04-F11F-44EA-920A-B9ED61E4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2E91AC-3F72-4CB3-8A31-9EB6C9DA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D0F61E-B937-4C15-A4D5-DD9DCD43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092918-29D2-438D-BC0B-B960194A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9CD0-8E5F-462A-AF29-8AB14DC4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942766-F3AC-4145-9608-C89AA620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E5A8D-58F3-4586-9B14-4B2012A6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47CA4-11C7-4CBB-BF0E-756A3195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8818A-71CF-40DF-8851-A92F4AB1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EEA73-F861-45E4-8924-DE169140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6185D-E0C3-4802-9405-87B2D542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30074-B34B-4B3B-AAB4-ABA4FC8A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D6FC1-9F59-45D4-86C7-79014CD4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36530-2721-43AB-8A69-C4F57E11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8056C-9AB1-49FF-BBEE-EE9EA4F3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138B-B709-46AB-A579-2281F872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A3386-6C6B-4727-9F4A-B592DA7C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C5098-61AB-4C2A-98E2-ABB2BA29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7019B-347C-4019-BE3F-0D4552C3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2762A3-25C8-48C4-88B8-48E62AAE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5745DA-CD8D-4EAA-9A53-E316DEA7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F82A77-28A9-49F5-818A-E13DF8BB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1C4FA7-990C-4ED1-8B31-3DA89E38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ADB85D-37D6-403D-92D1-41EA2E13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EC49C2-D561-47ED-B52D-210DB907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EEE5D5-E616-4562-935C-75AEC64B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9AE5-BC69-4E3A-A1D4-2D90DC9C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2A713F-9257-4068-88FE-EADA6687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97DD1E-7402-49D7-9D51-ECD3BD0E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1B422B-3F1B-45C8-8BBD-60F4CD2F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48D0F0-5D91-4324-B88E-6597907D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054E65-0681-4573-8A85-4C02702B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11D3-D8DD-4574-A847-8473EEF7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0904-F863-4A8C-B858-224AE9C4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9D7A-9721-4B89-AC9A-343B98EE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3FEA-5B74-4E28-BB53-6144B4D6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B3BB-15AB-4138-A26D-49BCDBB3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1F8E-CF89-4CB3-AD9A-11993145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11C9-F373-4BD7-A010-5DC41FAD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9D73-A3BC-4D6A-BED8-FD325939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BA1D-10FA-4316-AC4F-B8387ABF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DF8B-E2F8-41CC-8930-A2B99C8E5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6A23-4A4C-4E11-816D-6D4A41C7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60CA9-39C7-4212-839A-FA71EC73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F3E85-1E31-4F53-A8F3-8CD21907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46FB2-FC16-4E1C-B825-6428644B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DBF97-718F-4669-ACDF-2DB8899D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CC493-D066-46C8-9965-A7B9A047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D458-A608-4CBC-AF46-9FF03BC0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0C208-119B-4946-9FE0-2F5A929C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8B918-737A-4FCF-8CF9-B587071D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55368-C0A4-4BD8-8047-24CE201C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8367B-7794-4CCE-A624-95247431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92A1B-7C85-4E63-8459-B0B6DA59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A9424-A346-44C4-BE57-4E995C60D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39DB7-858F-47CD-AF04-DD9ED1B9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BA06F-06F5-48AD-A19F-339FFDA4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48D2C-CC2A-4C4F-8F10-62ECD43D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9203B-5441-4B1A-B801-6B43E99F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D082-0866-4680-B703-A50D56EA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56F7F-849F-42F9-B2BA-2AC695C7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D28AB-B4D1-4A5C-981D-B0A8F4DB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A2511-779E-4DAE-A99E-254BDB58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E788C-8BDD-4909-8731-F4EADA3B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B87A1-0A20-4C2C-8C3E-B44DFBA9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73931-9D15-4547-8615-724D9F70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97897-19EB-46F2-B623-C1D7C703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1259C-179A-4498-973B-7A641E6B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BDCA4-1497-4C12-AAE2-EECBD172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A4CF0-64D3-4DC2-9C6E-818B1BA8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B205-42E6-44F7-A401-87F4F352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1A123-C3A7-450F-99D6-AA29BE55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D452D-FCF5-45D1-BBDB-7B73061F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98CAD-7687-404E-955B-502BE465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6FAF3-15C6-4F22-8E22-DB557949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A812F-E582-4BBB-967A-CE893F3E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F1BE4-BB4C-45F9-94DF-C212ABEE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4CB8F-BEC7-4D0F-8BC8-311090B6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1FEC8-05D5-47E1-91AF-3450F1D8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659FF-D79C-4057-AF84-389E867A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39FE2-6384-4DA2-AD50-916E5913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86A8-A58B-4AD6-96D9-16400B74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F5EA5-A926-4D10-A4A6-950F4311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DAA05-53E9-44F2-BA79-40A3285C4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D1EA8-D759-4750-A12E-022B4FB8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E73BF-6A7B-4FDF-B223-74FAF0CB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6E153-7946-421B-AE25-E388124C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6085A-3476-4FB7-974D-DE23DD35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29317-4EA8-4AC1-8DAA-B52FCBC2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BD9DB-729C-47ED-B49B-C76021EA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7D3CA-F798-45BB-B7FC-9C045576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50A97-8116-46F7-AF41-FB22564E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D0C4-042E-412D-BA90-D3D41EF1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2482B-08D0-4872-A999-10D617FB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C2765-776C-449B-B2E4-42E66D26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1AD9A-8E8D-413D-B073-8587DA072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63236-6FE2-4F2A-9CB5-E44F46EA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2D162-17E1-4D47-B8A2-3F1E53D2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4422C-6917-47DB-A3A4-90142636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4BE7A-776A-4F50-8D1B-E7CACE14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2924D-E7ED-4A60-AB2A-7AFE3E54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67FE3-6597-41CD-90E4-905E8F70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5FA16-CD84-4BDA-AD52-49F172F1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3386-EA29-4B44-BDC2-0E0B9564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B6730-DF86-4AD9-A5AF-9CCE963C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C6677-340A-488E-A442-8EEB876A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5BB0E-D31B-488C-8C93-AA503DCE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68879-DB62-4FD9-BDCB-A817E3CD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796DD-8A75-4EC7-9D04-FDFC9ADD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96E1D-2190-4DA7-A82B-CA36F6F9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9AA96-8104-41C0-8ED9-D2269060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60DCB-DC96-41D4-845B-E6C5E903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EE33B-ACEE-42B1-BF05-5E217930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88F20-4502-491B-AE05-DAF97B41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5F9D-384E-4988-91AA-F2BB44F1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71091-35F6-473C-A6A2-EECD5F5D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D5723-0CCC-4128-B4A6-C98BE133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D92DC-F499-44B0-8017-7DF093F8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FDAC3-30D6-4428-907C-BC23D11F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F1C56-85B9-43B3-B129-7C282876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F38C0-8BA0-426B-B105-FF27D402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4CB21-1857-46D9-8525-05C2AE88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E3BBB8-7972-4553-A5C5-D348EE1F0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0DDFFC-7C97-40E9-81B1-BDBFD80F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E7E1E6-AD95-482E-8207-88640E89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CFD7E7-BF6D-40E2-96D5-6F3049C9831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A2E491-BD72-4FC5-A547-1FE53744B3C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BF8D78-D332-4752-9521-FD1A2B512EC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706E2-9881-4BD7-842F-13FDD897A9D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B4E2A-E1B8-4DE9-B269-F9B206986B3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EDC947-DEE4-43CB-8910-9070877DC38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F3DA2-700A-46A0-9014-C6F2B5A3D04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A240ED-1A23-4DD1-8B7E-A0BF9E1D331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2B3BA8-719B-4855-BEF7-3704B1360AF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9F4CD-AA15-4F30-AA19-389D959055D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2074A3-92A6-4544-8BDB-8219F28165D6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FA35A-94B7-4217-AA70-7401AF8CD7E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QUESTIONS ABOUT TIME WITH PRESENT TENSE MADE FOR ELS BY KATY SALGADO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O THE TUNE OF CAMP TOWN RAC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LEVEL I NEED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How Long?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7160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 did it take to bake?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?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?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37160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Georgia"/>
              </a:rPr>
              <a:t>It took 40 minutes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Picture 5" descr=""/>
          <p:cNvPicPr/>
          <p:nvPr/>
        </p:nvPicPr>
        <p:blipFill>
          <a:blip r:embed="rId1"/>
          <a:stretch/>
        </p:blipFill>
        <p:spPr>
          <a:xfrm>
            <a:off x="5751360" y="3359160"/>
            <a:ext cx="2019600" cy="26668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6" descr=""/>
          <p:cNvPicPr/>
          <p:nvPr/>
        </p:nvPicPr>
        <p:blipFill>
          <a:blip r:embed="rId2"/>
          <a:stretch/>
        </p:blipFill>
        <p:spPr>
          <a:xfrm>
            <a:off x="5372280" y="3359160"/>
            <a:ext cx="311148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7160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 did it take to finish?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?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37160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Georgia"/>
              </a:rPr>
              <a:t>It took me 2 hours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Picture 4" descr=""/>
          <p:cNvPicPr/>
          <p:nvPr/>
        </p:nvPicPr>
        <p:blipFill>
          <a:blip r:embed="rId1"/>
          <a:stretch/>
        </p:blipFill>
        <p:spPr>
          <a:xfrm>
            <a:off x="3525840" y="3584520"/>
            <a:ext cx="3429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37160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 did it take you to climb?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?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37160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Georgia"/>
              </a:rPr>
              <a:t>It took me an hour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5" descr=""/>
          <p:cNvPicPr/>
          <p:nvPr/>
        </p:nvPicPr>
        <p:blipFill>
          <a:blip r:embed="rId1"/>
          <a:stretch/>
        </p:blipFill>
        <p:spPr>
          <a:xfrm>
            <a:off x="4179960" y="3643200"/>
            <a:ext cx="34923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37160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 did it take you to write?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?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37160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Georgia"/>
              </a:rPr>
              <a:t>It took me a month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0" name="Picture 4" descr=""/>
          <p:cNvPicPr/>
          <p:nvPr/>
        </p:nvPicPr>
        <p:blipFill>
          <a:blip r:embed="rId1"/>
          <a:stretch/>
        </p:blipFill>
        <p:spPr>
          <a:xfrm>
            <a:off x="4889520" y="3886200"/>
            <a:ext cx="254016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7160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 did it take you to do your homework?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?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37160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Georgia"/>
              </a:rPr>
              <a:t>It took me 45 minutes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4" descr=""/>
          <p:cNvPicPr/>
          <p:nvPr/>
        </p:nvPicPr>
        <p:blipFill>
          <a:blip r:embed="rId1"/>
          <a:stretch/>
        </p:blipFill>
        <p:spPr>
          <a:xfrm>
            <a:off x="4889520" y="3886200"/>
            <a:ext cx="254016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37160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 did it take to ________?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?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37160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Georgia"/>
              </a:rPr>
              <a:t>It took me _________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70000" y="338040"/>
            <a:ext cx="8658000" cy="354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 have you _______________……….?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past participle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been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known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ad 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?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70000" y="3884400"/>
            <a:ext cx="88740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Georgia"/>
              </a:rPr>
              <a:t>I’ve been since _________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Georgi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Georgi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Georgi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Georgi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Georgia"/>
              </a:rPr>
              <a:t>time/year/grade level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19:44:29Z</dcterms:created>
  <dc:creator>City School</dc:creator>
  <dc:description/>
  <dc:language>en-US</dc:language>
  <cp:lastModifiedBy>122790</cp:lastModifiedBy>
  <dcterms:modified xsi:type="dcterms:W3CDTF">2011-07-07T21:18:58Z</dcterms:modified>
  <cp:revision>12</cp:revision>
  <dc:subject/>
  <dc:title>How Long?</dc:title>
</cp:coreProperties>
</file>